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4.jpeg" ContentType="image/jpeg"/>
  <Override PartName="/ppt/media/image3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26D-0ACA-4BDD-9EA9-11046EF2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AD3-438C-4C74-8752-D064027F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71D31-5A18-46A0-9939-6A85A50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1F17-6756-4EA9-8321-FE19BB79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83022-519C-4F43-B11D-B8194BD4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C0761-2827-4D97-B892-04993F82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47CA-E181-48AA-9065-9E03CC8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3AA97-A3D0-4566-96E0-20B1C80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2C0BD-9E3E-42A9-B4A2-7A616261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8A8C-8A56-451F-9727-33BFDAAE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5ADD-9169-4509-B0CE-47E56C7B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D4973-FE81-471E-B848-81BE49A5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48E-FD8F-4B9B-A0B4-E56BEDBA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DD800-6A61-4934-B96D-92F73F3C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F6D4E-A199-4455-A806-877B18D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9CD2E-8A07-496A-8707-9A937DF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9F4F1-14E3-4059-9AA6-537C4C7E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9C0ED-5D0D-435B-8DB1-26E0BBE1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1DEC-922C-4545-91C8-BD1F2AF1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555B2-3F0E-4736-BEAF-D6C4B42D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FB19D-C027-476D-990A-A3B9573A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920F6-C40B-4872-93F6-CEC496DA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3D012-CD42-4AF8-A80D-6B586766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888-E2D5-44E8-B8AC-4B10DA7A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72586-768E-424A-9131-C473181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49FA0-235C-4586-BBB8-F6E05D8E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FB29C-3E78-4D72-AE4E-A80CEB2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B1F4F-C820-43C3-BE32-7DDEDD2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85273-BFC4-4D58-85E4-CEDDD83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41A6D-5EA6-4112-BA0F-CBCDD9FA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BBFF5-6A93-4C0E-B6D5-D4AF9A4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7E719-C3A5-46FC-8486-432748A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0BD-22B4-43CE-9B92-FF844D7A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1DB5-7A60-4B55-8A48-9714D66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A9FC-5494-4147-A2C4-7EFF38A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EF848-875B-46FB-9DE2-83900C9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B98A9-7CC9-4354-89B5-56931DD8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4249-E421-4B15-9E7B-400AF3CB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C9022-5084-4232-B9D7-F5B45DD9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B735-5370-451B-85AE-5635D66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FA9A-E347-45C3-9936-BC1A71B1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4CDF-14EF-4EFE-A92C-43378A4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EFBE6-16A5-4843-B1F3-77D05D2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9BA-83EC-47BB-800E-3803D135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67FC3-28C1-48D3-B2C9-01547149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FF2D-DD9E-478C-8B7D-B240BF1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DDEA-65FC-4197-8FED-988DDCB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3DBD-353C-4C9E-B989-C6383D0D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A95A4-AD7D-4B57-9BD7-B1121324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2BFD-1B15-4C5A-A006-4F0C08CC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35D5-8F21-4F36-8D41-C6B3809A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8530-2848-4852-8FF3-0C121F34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01A7-A2EB-4FCA-B641-5FFBBB7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02DA7-0163-4845-AC9C-0AE67B7F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AF7-4E30-4A42-A368-99475D4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35DF-50F3-4121-AE2A-05DDE11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07D7-C2B6-4E0F-8C58-6449CC8F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46F6-30C8-4D4D-8B32-4BF8C4A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08A2-8FB5-4FDE-BD34-B40D3165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EE6B-A01A-45EF-9198-7E64552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9C65-91B2-480F-BF4A-FD4B3160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AAE4-A704-4FFE-8AC4-E39DDD24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A1A5C-56F8-43B7-BA33-DCBA03E5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5C11-0592-4B87-A75D-4DFA2784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613C-A9C0-4FA0-9FD1-DB2BA362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DBC-2658-469D-8415-F78B6DF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B49F-26F3-4F98-AA03-7BC66D1E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9520-AC73-43DF-B790-949C1E74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DC022-F827-420E-BA2C-033AE313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1991-2998-4AD0-B6A2-7752D3B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B9D3-ED77-4B9D-B8FD-A75D007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614D-7C6E-40C9-9C20-3676C0F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960E-7B99-4F98-B255-EB7CECB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2DFC-78D5-45F3-9773-0A7E9A0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5EFDE-0431-42D7-8671-2577C3D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22A8F-A3D8-447F-976A-6D4334D8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672-DFA2-44C8-9FE5-C4CFDD6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BB37-53BF-4E35-81C8-5FDDC4A9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D641E-5ECF-4808-A1E3-3F95840D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5325-79C7-4A71-83DF-281A1E7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8ABD1-63F0-4D5C-9B34-CD5E9D9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48B3-EDA0-4B22-B13B-B2FABD32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F830-F02A-4011-A18B-F1F86DA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89C1-2A5B-4DED-A477-C3511C6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875E-390B-4893-BE84-6401FB3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DD85-532F-4F4A-A164-4DF7CA7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A20D-83FD-41FF-9595-D350E9A0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F59-8F29-412C-B179-CD380FE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031A-392F-408F-BB17-FF417A4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01667-7986-477E-8A5F-C54C80A8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F987-7D5A-4C88-ADAE-5B502435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1079-A483-4414-85F5-A5B5F826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32A81-0C8E-430B-B49E-0E853B7D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1ABCB-C1D1-495D-AA21-CE30C43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5163-448F-4F18-B168-B3AEF650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A69C-DF38-42EF-8B98-079E01F7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25278-4C90-47C3-A8CC-8BA2613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D127-0641-47DB-B27F-EB5A6237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DFE-CB87-4FBE-97C8-5A3F60F9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DB3E-0421-4117-961F-AA7B5D9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BBB6-0453-46D4-B7BC-9CF4329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28D0A-6534-4597-B040-FAE7DCB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B757A-19A1-405A-ACB7-26FC2B9E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42F9-F522-4B92-9D2F-56077DE0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AEA96-2ACA-4004-9F0F-8F6407B0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C7EDE-ED9B-4139-9DF1-5D8CF2E6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B010D-CDB3-488D-8F39-4D5B3C19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3DBC2-2829-4B51-9A66-5FAE6DE5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B93D0-1400-4C30-B3F4-1661536D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D93-35FF-4347-BC34-4F5A0CF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6C7EB-F5F2-4AB7-A627-18EA01BE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E2B3-7D5C-409B-9FEB-482A96B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2CED5-2A28-4087-865E-48BB69B0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4429B-E2C3-43D1-9320-6536437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95895-5C5C-4FF5-AEC7-ED77CEA6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4FF9-4AC9-4207-946F-DC796CE3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FAAAA-D9C0-47CF-AD3B-F04CCB46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00CB9-55BA-4BBA-8369-40FD1F89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AA3F2-F32B-4EB7-A1ED-71087CC1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87E4B-4386-466F-89A7-2DC7344F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C7B-A95F-4837-B979-5F49BF69FD9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1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A48-072A-47DB-A466-037A3E0B161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7BE-C3AF-4B85-85D1-8AF94548E35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E94-C345-4287-B5B5-9B757CDA35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2AA-0E00-477C-A78E-E018C1D58BC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F49-DA7F-4253-AAE3-E6461ECB17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AB9-A8BA-46BC-9A2B-74278D8E6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898-A501-4EA8-81BE-E6487E669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CECC-EAC4-4AFF-B010-EA0733EEC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6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EBCB-8D1B-4C92-9584-040D5202640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2184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3e3ff"/>
                </a:solidFill>
                <a:latin typeface="Arial"/>
                <a:ea typeface="华文新魏"/>
              </a:rPr>
              <a:t>国防与双拥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2916360" y="4292280"/>
            <a:ext cx="66182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一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班主题班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99"/>
                </a:solidFill>
                <a:latin typeface="Arial"/>
                <a:ea typeface="隶书"/>
              </a:rPr>
              <a:t>现在的中国</a:t>
            </a:r>
            <a:br>
              <a:rPr sz="7200"/>
            </a:br>
            <a:r>
              <a:rPr b="0" lang="zh-CN" sz="7200" spc="-1" strike="noStrike">
                <a:solidFill>
                  <a:srgbClr val="003399"/>
                </a:solidFill>
                <a:latin typeface="Arial"/>
                <a:ea typeface="隶书"/>
              </a:rPr>
              <a:t>我们的国防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465440" cy="43927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3"/>
          <a:stretch/>
        </p:blipFill>
        <p:spPr>
          <a:xfrm>
            <a:off x="4859280" y="1484280"/>
            <a:ext cx="40831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249800" cy="43923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3809880" cy="24577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572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003920" cy="410220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4892760" y="1628640"/>
            <a:ext cx="4000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268520" cy="45356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5076720" y="1052640"/>
            <a:ext cx="38163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66"/>
                </a:solidFill>
                <a:latin typeface="Arial"/>
                <a:ea typeface="华文新魏"/>
              </a:rPr>
              <a:t>“</a:t>
            </a:r>
            <a:r>
              <a:rPr b="0" lang="zh-CN" sz="8800" spc="-1" strike="noStrike">
                <a:solidFill>
                  <a:srgbClr val="ffff66"/>
                </a:solidFill>
                <a:latin typeface="Arial"/>
                <a:ea typeface="华文新魏"/>
              </a:rPr>
              <a:t>双拥”</a:t>
            </a:r>
            <a:endParaRPr b="0" lang="en-US" sz="8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43cdc"/>
                </a:solidFill>
                <a:latin typeface="Arial"/>
                <a:ea typeface="华文行楷"/>
              </a:rPr>
              <a:t>我们为什么要“双拥”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43cdc"/>
                </a:solidFill>
                <a:latin typeface="Arial"/>
                <a:ea typeface="华文行楷"/>
              </a:rPr>
              <a:t>对于“双拥”，我们应该怎么做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41128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b7"/>
                </a:solidFill>
                <a:latin typeface="Arial Black"/>
              </a:rPr>
              <a:t>绿色神韵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—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记我们的军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2512800" cy="25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5406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cc"/>
                </a:solidFill>
                <a:latin typeface="Tahoma"/>
              </a:rPr>
              <a:t>中国屈辱的近代史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4537080" cy="33400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01680" y="260280"/>
            <a:ext cx="8591400" cy="633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68360" y="85680"/>
            <a:ext cx="8675640" cy="650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24000" y="-22320"/>
            <a:ext cx="8820000" cy="6615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-2649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306360"/>
            <a:ext cx="8964720" cy="655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689440" cy="63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0:53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8:52:08Z</dcterms:modified>
  <cp:revision>32</cp:revision>
  <dc:subject>主题班会课件(分28大类): http://shop62905894.taobao.com</dc:subject>
  <dc:title>主题班会课件(分28大类): http://shop62905894.taobao.com</dc:title>
</cp:coreProperties>
</file>